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A80-C238-453D-A75C-05D73D70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846-F90D-4577-9C42-92DFD0B3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576-11BF-49F5-AD4F-DEF393A9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FF6B-3619-4B24-8A79-C6FB02E4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72AAB-B115-4527-A8CE-691A704D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52426-EB4B-4996-80BD-36A16F2A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86893-E1E4-46E5-BCCF-70EBEFA1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DA8AE-6999-4665-8CDA-CA074D1C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00089-C0BF-40F1-BE54-25DAD83B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D8B10-712F-490F-B969-E3D9B5F1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3FAC2-7B5A-47E6-9330-89DE2E42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BC8-D681-49B8-AB90-D86EA10F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1B9DE-870E-45F1-BDB0-C8D85328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02FDE-C549-4467-BD86-F980F7B1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79ED9-80B2-49F4-A5D6-B83C5D7E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FC1BC-B750-4955-A405-2D4EBE73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6D4E3-A804-4202-90D9-401AFE54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1ED-D372-416D-AD3A-7114D7B6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394-CE7C-49FE-9A1B-BCDCDC9E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908-EBEA-44AD-95DD-40F20438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38E-A5DF-45B6-BDB7-6284C57C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4AD-D15D-4DE4-B47A-B000143C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BEA-4BD8-462C-B6B0-00C83261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E35-1F02-47EC-A104-E92040FD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3DCD-F6B6-4A2F-A00A-A8741B3BB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EB42-217B-42C2-9E21-C66508C17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рок математики в 5 классе. Решение уравне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ила: Зёлка Людмил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ван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математики МОУ СОШ № 28      г. Комсомольск-на-Аму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48 – х = 12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6 + х = 5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х – 234 = 1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 х – 35 ) + 12 = 21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 к самостоятельной работ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276640"/>
          <a:ext cx="8229240" cy="309708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5560"/>
                <a:gridCol w="1645920"/>
                <a:gridCol w="1645920"/>
              </a:tblGrid>
              <a:tr h="15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чёные математ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Диофант ( 3 век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ухаммед аль Хорезми ( 9 век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Франсуа Виет ( 16 век 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ест для рефлек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Результатом своей личной работы считаю, что я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. Разобрался в теор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. Научился решать задач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.Повторил изученный материа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Чего вам не хватало на уроке при решении зад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 Зн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.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. Жел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. Решал нормаль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 Кто оказывал вам помощь в преодолении трудностей на урок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. Одноклассн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. Учитель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. Учебни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Г. Никт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едмет математики настолько серьёзен, что полезно не упускать случая, сделать его немного занимательным»                                  ( Блез Паскаль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евиз урока: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 Решай, ищи, твори и мысл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йди ошибку в решении уравн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905120"/>
          <a:ext cx="8642160" cy="4114800"/>
        </p:xfrm>
        <a:graphic>
          <a:graphicData uri="http://schemas.openxmlformats.org/drawingml/2006/table">
            <a:tbl>
              <a:tblPr/>
              <a:tblGrid>
                <a:gridCol w="3173400"/>
                <a:gridCol w="2803320"/>
                <a:gridCol w="26654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 + 14 = 2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 – х =1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 – 18 = 2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 = 25 - 1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 = 34 + 1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 = 25 - 1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 = 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 = 5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 = 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а – шут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о дереву ползет гусеница. За день она поднимается на 6 м, а ночью опускается на 4 м. За сколько дней она доползет до вершины, если высота дерева 14 м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команда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 Что называется уравнением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 Что называют корнем уравнения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  Что значит решить уравнени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звать неизвестные компоненты уравн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 4 + х) – 5 =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 14 – х ) + 8 = 1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Х + 18 – 9 = 3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йти корень уравн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0920" y="1905120"/>
          <a:ext cx="8435880" cy="4114800"/>
        </p:xfrm>
        <a:graphic>
          <a:graphicData uri="http://schemas.openxmlformats.org/drawingml/2006/table">
            <a:tbl>
              <a:tblPr/>
              <a:tblGrid>
                <a:gridCol w="674640"/>
                <a:gridCol w="2998800"/>
                <a:gridCol w="1387440"/>
                <a:gridCol w="1852560"/>
                <a:gridCol w="1522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равнени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рень уравнени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 + 18 = 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 – а = 1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 – 24 = 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 + в = 5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 – 1 = 9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шить уравнение двумя способа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 50 + х ) – 26 = 7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 х + 12 ) + 34 = 8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2:15:42Z</dcterms:created>
  <dc:creator>user</dc:creator>
  <dc:description/>
  <dc:language>en-US</dc:language>
  <cp:lastModifiedBy>user</cp:lastModifiedBy>
  <dcterms:modified xsi:type="dcterms:W3CDTF">2013-01-09T13:56:59Z</dcterms:modified>
  <cp:revision>2</cp:revision>
  <dc:subject/>
  <dc:title>Урок математики в 5 классе. Решение уравнений</dc:title>
</cp:coreProperties>
</file>